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467C-1113-4C3C-BF77-E7CC40B22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54D1-ED87-414A-B6C9-01A4F4D72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9CE1-4FBA-4241-AE71-7DDA82655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96B2-8076-4EBA-836A-CAAFB0729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98BD-8B35-4569-B060-8CB091451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12CF-F9BC-4BCB-AB8C-E9D459086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E57B-6B52-4E25-BAF0-A3199E6F2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89E09-34FE-4388-8E4B-6983A2C39B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21271-5DDA-45AF-9CBA-D5DB6111E1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F8D50-814C-4FD7-A3D9-5D69FA410E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D3A9A-F186-4315-878E-BBF00D2DA3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FC6DA-9319-40D7-9498-0C14952800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D97B1-4D67-4EEB-A29E-2F6EA839BC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9A67B-4499-4BF7-8950-45130B3B87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9543A-576C-4B87-B881-555C7AD0CD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07CEF-9BAB-4159-8700-01FB6AAD76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7BF29-18F7-47F4-9D80-7567B584AE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6A17D-C9E5-46EC-8241-7F361FC4DD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6891F-8987-4FF6-88FE-182BAD9722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4373-2634-4F34-B8F0-D186AD270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320" y="6324120"/>
            <a:ext cx="4953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890D-4ADE-4C66-A990-73CD3BA14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5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Eleve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2742840"/>
            <a:ext cx="4800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n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6705720" y="2209680"/>
            <a:ext cx="1447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9" descr="11-2.jpg"/>
          <p:cNvPicPr/>
          <p:nvPr/>
        </p:nvPicPr>
        <p:blipFill>
          <a:blip r:embed="rId1"/>
          <a:stretch/>
        </p:blipFill>
        <p:spPr>
          <a:xfrm>
            <a:off x="5638680" y="1523880"/>
            <a:ext cx="284508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26EB-7BED-4662-828B-367A50611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ype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Evaluations may be distinguished from each other with respect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10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data gathered and analy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10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fundamental purpose of the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11-4.jpg"/>
          <p:cNvPicPr/>
          <p:nvPr/>
        </p:nvPicPr>
        <p:blipFill>
          <a:blip r:embed="rId1"/>
          <a:stretch/>
        </p:blipFill>
        <p:spPr>
          <a:xfrm>
            <a:off x="3352680" y="4343400"/>
            <a:ext cx="256068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E9E2-D79D-4182-84A8-460E1DEEF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ype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he data gathered and analy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9860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ee perceptions, learning and behaviour at the conclusion of trai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9860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ssessing psychological forces that operate during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9860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formation about the work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52480" indent="-49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 climate and learning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687B-9E52-4814-BD7A-B51B41628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ype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The purpose of the eval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ormative: provide data about various aspects of a training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ummative: provide data about worthiness or effectiveness of a training program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scriptive: provide information that describes the trainee once they have completed a training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ausal: provide information to determine if training caused the post-training behavi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87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24B4-E285-48A6-99D7-FDEFAD13F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Kirkpatrick’s Hierarchica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ldest, best known, and most frequently used mod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he Four Levels of Training E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vel 1: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vel 2: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vel 3: Behavi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vel 4: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11-5.jpg"/>
          <p:cNvPicPr/>
          <p:nvPr/>
        </p:nvPicPr>
        <p:blipFill>
          <a:blip r:embed="rId1"/>
          <a:stretch/>
        </p:blipFill>
        <p:spPr>
          <a:xfrm>
            <a:off x="5410080" y="3809880"/>
            <a:ext cx="35816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7C37-BF52-46F6-8249-2676B61C2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ooter Placeholder 5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irkpatrick’s Model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rovides a systematic framework for assessing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four levels are presented in a hierarchy with each level providing more important information than the preceding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t assumes all levels are positively related to each other; have causal effect on the next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tributions of Kirkpatrick model not to be underestimated; clear, simple, demystified evaluation and provide impetus for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85D4-5F0D-40F5-89B4-2F83BE301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Models of Training Evaluation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re is general agreement that the four levels are important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utcomes to be assessed  there are some critiques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oubt about the val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sufficiently diagno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Kirkpatrick requires all training evaluations to rely on the same variables and outcome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13CDB-7C00-4550-BAD3-E7A2F0D69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A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training evaluation model that involves the measurement of four types of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gn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ganizational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08296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6085-EBC6-432B-AEBE-A27A33FBD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MA model improves on Kirkpatrick’s model in three wa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s a greater number of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s are causally related to training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variables with greater pr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COMA model is relatively new so too early to determine its value; also its focus is on factors that impact transfer only;  and it does not specify how evaluations should be condu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7C3F-E8C1-457D-8EEE-75BE3BB2C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-Based Evalua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training evaluation model that specifies the target, focus, and methods of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11-6.jpg"/>
          <p:cNvPicPr/>
          <p:nvPr/>
        </p:nvPicPr>
        <p:blipFill>
          <a:blip r:embed="rId1"/>
          <a:stretch/>
        </p:blipFill>
        <p:spPr>
          <a:xfrm>
            <a:off x="2514600" y="3429000"/>
            <a:ext cx="4114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0A84-A9AC-4853-A7E7-ABEA9E44D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-Based Evalua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395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oes further than either of the two preceding mode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dentifies the target of the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dentifies its 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uggest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eneral to any evaluation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lexibility: guided by target of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2D97-4637-4142-9546-158ADE3F3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training evaluation and the main reasons for conducting evalu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uss the barriers to evaluation and the factors that affect whether or not an evaluation is conduc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the different types of evalu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the models of training evaluation and the relationship among th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32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3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32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0292-4B57-446E-AA25-55B8FE282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ith COMA, the DBE model is recent and will need to be tested more f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ree models require specialized knowledge to complete the evaluation; this can limit their use in organizations without this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ton and colleagues’ Learning Transfer System Inventory (seen in Ch 10) provides a more generic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Training Today 11.2 for more on its use for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64CC-8EF7-4286-857E-10DB68C71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evaluation requires data be collected on important aspects of 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f these variables have been identified in the three models of evalu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ore complete list of variables is presented in Table 11.1 and Table 11.2 shows sample questions and formats for measuring each type of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72B0-3D07-467F-A996-2AC0A057A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effic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ived/anticipated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al per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al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5950800" y="5105520"/>
            <a:ext cx="215568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Table 11.1 in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7" descr="11-7.jpg"/>
          <p:cNvPicPr/>
          <p:nvPr/>
        </p:nvPicPr>
        <p:blipFill>
          <a:blip r:embed="rId1"/>
          <a:stretch/>
        </p:blipFill>
        <p:spPr>
          <a:xfrm>
            <a:off x="5013360" y="1447920"/>
            <a:ext cx="4130640" cy="27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E9D2-FA97-4C3C-91E1-D947B318A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ooter Placeholder 5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248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1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ffective reactions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measures that assess trainees’ likes and dislikes of a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Utility reactions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measures that assess the perceived usefulness of a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11-8.jpg"/>
          <p:cNvPicPr/>
          <p:nvPr/>
        </p:nvPicPr>
        <p:blipFill>
          <a:blip r:embed="rId1"/>
          <a:stretch/>
        </p:blipFill>
        <p:spPr>
          <a:xfrm>
            <a:off x="5943600" y="3276720"/>
            <a:ext cx="310680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C39C-A349-4F74-87B9-D1F478CB3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2560" indent="-68256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arning outcomes can be measur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295280" indent="-4982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Declarative learning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refers to the acquisition of facts and information, and is by far the most frequently assessed learning mea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95280" indent="-4982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Procedural learning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refers to the organization of facts and information into a smooth behavioural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DB62-8DA8-4014-A81F-B52137102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ooter Placeholder 5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867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2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h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ehaviours can be measured using three approach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65200" indent="0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539720" indent="-6206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lf-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539720" indent="-6206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539720" indent="-62064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duction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11-9.jpg"/>
          <p:cNvPicPr/>
          <p:nvPr/>
        </p:nvPicPr>
        <p:blipFill>
          <a:blip r:embed="rId1"/>
          <a:stretch/>
        </p:blipFill>
        <p:spPr>
          <a:xfrm>
            <a:off x="5365800" y="2971800"/>
            <a:ext cx="3778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5A8E-8730-4741-B976-D034B26B3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2560" indent="-68256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wo types of motivation in the training contex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-5205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tivation to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-5205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tivation to apply the skill on-the-job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(transf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f-effic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s to the beliefs that trainees have about their ability to perform the behaviours that were taught in a training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93A4-530B-46F3-A663-B94602205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ooter Placeholder 5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44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6"/>
              <a:tabLst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ceived and/or Anticipated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349"/>
              </a:spcBef>
              <a:buNone/>
              <a:tabLst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49"/>
              </a:spcBef>
              <a:buNone/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Two important measures of support a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45720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511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000000"/>
                </a:solidFill>
                <a:latin typeface="Arial"/>
              </a:rPr>
              <a:t>Perceived support: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The degree to              which the trainee reports receiving              support in attempts to transfer the            learned ski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0">
              <a:spcBef>
                <a:spcPts val="649"/>
              </a:spcBef>
              <a:buNone/>
              <a:tabLst>
                <a:tab algn="l" pos="0"/>
                <a:tab algn="l" pos="511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C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600" spc="-1" strike="noStrike">
                <a:solidFill>
                  <a:srgbClr val="000000"/>
                </a:solidFill>
                <a:latin typeface="Arial"/>
              </a:rPr>
              <a:t>Anticipated support: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The degree to            which the trainee expects to supported             in attempts to transfer the learned ski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11-10.jpg"/>
          <p:cNvPicPr/>
          <p:nvPr/>
        </p:nvPicPr>
        <p:blipFill>
          <a:blip r:embed="rId1"/>
          <a:stretch/>
        </p:blipFill>
        <p:spPr>
          <a:xfrm>
            <a:off x="6997680" y="2057400"/>
            <a:ext cx="199872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E52A-F25F-40FB-8EBF-E58E165F2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44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3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zational Perce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4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34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wo scales designed to measure perce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7880" indent="-4766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nsfer climate: can be assessed via a questionnaire that identifies eight sets of “cu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7880" indent="0">
              <a:spcBef>
                <a:spcPts val="1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1217880" indent="-4766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tinuous learning culture: can be assessed via questionnaire presented in Trainer’s Notebook 4.1 in chapter 4 of your tex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736440" indent="0">
              <a:spcBef>
                <a:spcPts val="70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8A82-C5DF-4D43-B5A1-11D0F2A43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ooter Placeholder 6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44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7238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7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zational Percep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nt'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Transfer climate cures includ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Goal c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Social c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Task and structural c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Positive feedb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Negative feedb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No feedb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8" descr="11-11.jpg"/>
          <p:cNvPicPr/>
          <p:nvPr/>
        </p:nvPicPr>
        <p:blipFill>
          <a:blip r:embed="rId1"/>
          <a:stretch/>
        </p:blipFill>
        <p:spPr>
          <a:xfrm>
            <a:off x="6248520" y="2057400"/>
            <a:ext cx="2222280" cy="1476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11-12.jpg"/>
          <p:cNvPicPr/>
          <p:nvPr/>
        </p:nvPicPr>
        <p:blipFill>
          <a:blip r:embed="rId2"/>
          <a:stretch/>
        </p:blipFill>
        <p:spPr>
          <a:xfrm>
            <a:off x="6400800" y="3581280"/>
            <a:ext cx="2135160" cy="1436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11-13.jpg"/>
          <p:cNvPicPr/>
          <p:nvPr/>
        </p:nvPicPr>
        <p:blipFill>
          <a:blip r:embed="rId3"/>
          <a:stretch/>
        </p:blipFill>
        <p:spPr>
          <a:xfrm>
            <a:off x="6858000" y="5029200"/>
            <a:ext cx="179064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6886-49EF-429F-AD0B-8D3F0D9B5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the main variables to measure in a training evaluation and how they are measu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uss the different types of designs for training evaluation, as well as their requirements, limits, and when they should be u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94C5-E7AA-4485-95CC-123255825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6560" indent="-736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zational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36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36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ults information consists of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365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Hard data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Results that can be measured objectively (i.e., number of items sol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 Dat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sults that are assessed through perceptions and judgments (i.e., attitud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Return on Expectations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Measurement of a training program’s ability to meet managerial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D4FD-9FB4-41FF-804E-B2CE45BC0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Footer Placeholder 5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Data Collection Designs in Training Evaluation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anner with which the data collection is organized and how the data will be analy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l data collection designs compare the trained person to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11-14.jpg"/>
          <p:cNvPicPr/>
          <p:nvPr/>
        </p:nvPicPr>
        <p:blipFill>
          <a:blip r:embed="rId1"/>
          <a:stretch/>
        </p:blipFill>
        <p:spPr>
          <a:xfrm>
            <a:off x="4892760" y="1905120"/>
            <a:ext cx="425124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992A-816A-4C84-A5DF-8D95EDB27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Data Collection Designs in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Non-experimental designs: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Comparison is made to a standard and not to another group of (untrained)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Experimental designs: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Trained group is compared to another group that does not receive the training and when the assignment of people to the training group and the non-training group is 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Quasi-experimental designs: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Trained group is compared to another group that does not receive the training, but when the assignment of people to the training group and the non-training group is not rand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C781-10BA-43B5-9085-ACD4466BB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Data Collection Designs in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erent Types of Evaluation De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sign A: The single group post-only design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sign B: The single group pre-post design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sign C: The time series design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Arial"/>
              </a:rPr>
              <a:t>Design D: The single group design with control gro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ign E: The pre-post design with control gro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ign F: The time-series design with comparison gro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Design G: The internal referencing strategy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of the above are non-experimental des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**Casual Models: experimental or quasi-experi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***Hybrid design that permits some conclusions drawn from causal des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676C-3E4F-49B7-9876-B1DB61595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Data Collection Designs in Training Evaluation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pic>
        <p:nvPicPr>
          <p:cNvPr id="197" name="Picture 5" descr="p344.jpg"/>
          <p:cNvPicPr/>
          <p:nvPr/>
        </p:nvPicPr>
        <p:blipFill>
          <a:blip r:embed="rId1"/>
          <a:stretch/>
        </p:blipFill>
        <p:spPr>
          <a:xfrm>
            <a:off x="1600200" y="1752480"/>
            <a:ext cx="5562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B2BB-2DA2-45BF-8B3D-EABE84F1D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ooter Placeholder 3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Data Collection Designs in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01" name="Line 3"/>
          <p:cNvSpPr/>
          <p:nvPr/>
        </p:nvSpPr>
        <p:spPr>
          <a:xfrm>
            <a:off x="533520" y="2438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4"/>
          <p:cNvSpPr/>
          <p:nvPr/>
        </p:nvSpPr>
        <p:spPr>
          <a:xfrm>
            <a:off x="533520" y="45720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635040" y="45705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6"/>
          <p:cNvSpPr/>
          <p:nvPr/>
        </p:nvSpPr>
        <p:spPr>
          <a:xfrm>
            <a:off x="259092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7"/>
          <p:cNvSpPr/>
          <p:nvPr/>
        </p:nvSpPr>
        <p:spPr>
          <a:xfrm>
            <a:off x="5334120" y="2438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8"/>
          <p:cNvSpPr/>
          <p:nvPr/>
        </p:nvSpPr>
        <p:spPr>
          <a:xfrm>
            <a:off x="5334120" y="45720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5435640" y="45705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739152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5638680" y="342900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2"/>
          <p:cNvSpPr/>
          <p:nvPr/>
        </p:nvSpPr>
        <p:spPr>
          <a:xfrm flipV="1">
            <a:off x="6095880" y="2971800"/>
            <a:ext cx="12956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221400" y="5192640"/>
            <a:ext cx="397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: Single Group Post-only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n-experiment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4"/>
          <p:cNvSpPr/>
          <p:nvPr/>
        </p:nvSpPr>
        <p:spPr>
          <a:xfrm>
            <a:off x="4941000" y="5175360"/>
            <a:ext cx="390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: Single Group Pre-Post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n-experiment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39F6-0948-455F-9FC1-53E38C1EC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Footer Placeholder 3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Data Collection Designs in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16" name="Line 3"/>
          <p:cNvSpPr/>
          <p:nvPr/>
        </p:nvSpPr>
        <p:spPr>
          <a:xfrm>
            <a:off x="533520" y="2438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533520" y="45720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635040" y="45705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6"/>
          <p:cNvSpPr/>
          <p:nvPr/>
        </p:nvSpPr>
        <p:spPr>
          <a:xfrm>
            <a:off x="289548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7"/>
          <p:cNvSpPr/>
          <p:nvPr/>
        </p:nvSpPr>
        <p:spPr>
          <a:xfrm>
            <a:off x="5334120" y="2438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5334120" y="45720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5435640" y="45705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Oval 10"/>
          <p:cNvSpPr/>
          <p:nvPr/>
        </p:nvSpPr>
        <p:spPr>
          <a:xfrm>
            <a:off x="739152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489960" y="5192640"/>
            <a:ext cx="272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: Time Series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n-experiment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5328000" y="5175360"/>
            <a:ext cx="285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: Single Group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Control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Oval 15"/>
          <p:cNvSpPr/>
          <p:nvPr/>
        </p:nvSpPr>
        <p:spPr>
          <a:xfrm>
            <a:off x="228600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Oval 16"/>
          <p:cNvSpPr/>
          <p:nvPr/>
        </p:nvSpPr>
        <p:spPr>
          <a:xfrm>
            <a:off x="685800" y="396252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Oval 17"/>
          <p:cNvSpPr/>
          <p:nvPr/>
        </p:nvSpPr>
        <p:spPr>
          <a:xfrm>
            <a:off x="1295280" y="396252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AutoShape 18"/>
          <p:cNvCxnSpPr>
            <a:stCxn id="227" idx="6"/>
            <a:endCxn id="228" idx="2"/>
          </p:cNvCxnSpPr>
          <p:nvPr/>
        </p:nvCxnSpPr>
        <p:spPr>
          <a:xfrm>
            <a:off x="1142640" y="415260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0" name="AutoShape 19"/>
          <p:cNvCxnSpPr>
            <a:stCxn id="226" idx="6"/>
            <a:endCxn id="219" idx="2"/>
          </p:cNvCxnSpPr>
          <p:nvPr/>
        </p:nvCxnSpPr>
        <p:spPr>
          <a:xfrm>
            <a:off x="2742840" y="285732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1" name="Line 20"/>
          <p:cNvSpPr/>
          <p:nvPr/>
        </p:nvSpPr>
        <p:spPr>
          <a:xfrm flipV="1">
            <a:off x="1752480" y="3047760"/>
            <a:ext cx="60984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21"/>
          <p:cNvSpPr/>
          <p:nvPr/>
        </p:nvSpPr>
        <p:spPr>
          <a:xfrm>
            <a:off x="7391520" y="327672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Oval 22"/>
          <p:cNvSpPr/>
          <p:nvPr/>
        </p:nvSpPr>
        <p:spPr>
          <a:xfrm>
            <a:off x="3166920" y="160020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24"/>
          <p:cNvSpPr/>
          <p:nvPr/>
        </p:nvSpPr>
        <p:spPr>
          <a:xfrm>
            <a:off x="3576960" y="15987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Tra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25"/>
          <p:cNvSpPr/>
          <p:nvPr/>
        </p:nvSpPr>
        <p:spPr>
          <a:xfrm>
            <a:off x="4846680" y="159876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Untra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26"/>
          <p:cNvSpPr/>
          <p:nvPr/>
        </p:nvSpPr>
        <p:spPr>
          <a:xfrm>
            <a:off x="3048120" y="1523880"/>
            <a:ext cx="2819160" cy="5335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27"/>
          <p:cNvSpPr/>
          <p:nvPr/>
        </p:nvSpPr>
        <p:spPr>
          <a:xfrm>
            <a:off x="4419720" y="160020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0301-D65D-4B0F-A1E7-1A8847E95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ooter Placeholder 3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Data Collection Designs in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41" name="Line 3"/>
          <p:cNvSpPr/>
          <p:nvPr/>
        </p:nvSpPr>
        <p:spPr>
          <a:xfrm>
            <a:off x="533520" y="2438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4"/>
          <p:cNvSpPr/>
          <p:nvPr/>
        </p:nvSpPr>
        <p:spPr>
          <a:xfrm>
            <a:off x="533520" y="45720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635040" y="45705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7"/>
          <p:cNvSpPr/>
          <p:nvPr/>
        </p:nvSpPr>
        <p:spPr>
          <a:xfrm>
            <a:off x="5334120" y="2438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8"/>
          <p:cNvSpPr/>
          <p:nvPr/>
        </p:nvSpPr>
        <p:spPr>
          <a:xfrm>
            <a:off x="5334120" y="45720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5435640" y="45705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666360" y="5192640"/>
            <a:ext cx="237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: Pre-post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Control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5334120" y="5175360"/>
            <a:ext cx="28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: Time Series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Comparison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9"/>
          <p:cNvSpPr/>
          <p:nvPr/>
        </p:nvSpPr>
        <p:spPr>
          <a:xfrm>
            <a:off x="7696080" y="411480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Oval 20"/>
          <p:cNvSpPr/>
          <p:nvPr/>
        </p:nvSpPr>
        <p:spPr>
          <a:xfrm>
            <a:off x="259092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21"/>
          <p:cNvSpPr/>
          <p:nvPr/>
        </p:nvSpPr>
        <p:spPr>
          <a:xfrm>
            <a:off x="2590920" y="396252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Oval 22"/>
          <p:cNvSpPr/>
          <p:nvPr/>
        </p:nvSpPr>
        <p:spPr>
          <a:xfrm>
            <a:off x="762120" y="365760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23"/>
          <p:cNvSpPr/>
          <p:nvPr/>
        </p:nvSpPr>
        <p:spPr>
          <a:xfrm>
            <a:off x="762120" y="396252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26"/>
          <p:cNvSpPr/>
          <p:nvPr/>
        </p:nvSpPr>
        <p:spPr>
          <a:xfrm flipV="1">
            <a:off x="1219320" y="297144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30"/>
          <p:cNvSpPr/>
          <p:nvPr/>
        </p:nvSpPr>
        <p:spPr>
          <a:xfrm>
            <a:off x="1295280" y="4114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Oval 31"/>
          <p:cNvSpPr/>
          <p:nvPr/>
        </p:nvSpPr>
        <p:spPr>
          <a:xfrm>
            <a:off x="769608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Oval 32"/>
          <p:cNvSpPr/>
          <p:nvPr/>
        </p:nvSpPr>
        <p:spPr>
          <a:xfrm>
            <a:off x="708660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Oval 33"/>
          <p:cNvSpPr/>
          <p:nvPr/>
        </p:nvSpPr>
        <p:spPr>
          <a:xfrm>
            <a:off x="5486400" y="396252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Oval 34"/>
          <p:cNvSpPr/>
          <p:nvPr/>
        </p:nvSpPr>
        <p:spPr>
          <a:xfrm>
            <a:off x="6095880" y="396252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AutoShape 35"/>
          <p:cNvCxnSpPr>
            <a:stCxn id="258" idx="6"/>
            <a:endCxn id="259" idx="2"/>
          </p:cNvCxnSpPr>
          <p:nvPr/>
        </p:nvCxnSpPr>
        <p:spPr>
          <a:xfrm>
            <a:off x="5943240" y="415260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1" name="AutoShape 36"/>
          <p:cNvCxnSpPr>
            <a:stCxn id="257" idx="6"/>
            <a:endCxn id="256" idx="2"/>
          </p:cNvCxnSpPr>
          <p:nvPr/>
        </p:nvCxnSpPr>
        <p:spPr>
          <a:xfrm>
            <a:off x="7543440" y="285732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2" name="Line 37"/>
          <p:cNvSpPr/>
          <p:nvPr/>
        </p:nvSpPr>
        <p:spPr>
          <a:xfrm flipV="1">
            <a:off x="6553080" y="3047760"/>
            <a:ext cx="60984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38"/>
          <p:cNvSpPr/>
          <p:nvPr/>
        </p:nvSpPr>
        <p:spPr>
          <a:xfrm>
            <a:off x="7086600" y="411480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39"/>
          <p:cNvSpPr/>
          <p:nvPr/>
        </p:nvSpPr>
        <p:spPr>
          <a:xfrm>
            <a:off x="6019920" y="411480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40"/>
          <p:cNvSpPr/>
          <p:nvPr/>
        </p:nvSpPr>
        <p:spPr>
          <a:xfrm>
            <a:off x="5410080" y="411480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AutoShape 41"/>
          <p:cNvCxnSpPr>
            <a:stCxn id="265" idx="3"/>
            <a:endCxn id="264" idx="1"/>
          </p:cNvCxnSpPr>
          <p:nvPr/>
        </p:nvCxnSpPr>
        <p:spPr>
          <a:xfrm>
            <a:off x="5867280" y="4304880"/>
            <a:ext cx="153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7" name="AutoShape 42"/>
          <p:cNvCxnSpPr>
            <a:stCxn id="263" idx="3"/>
            <a:endCxn id="249" idx="1"/>
          </p:cNvCxnSpPr>
          <p:nvPr/>
        </p:nvCxnSpPr>
        <p:spPr>
          <a:xfrm>
            <a:off x="7543440" y="430488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8" name="Line 43"/>
          <p:cNvSpPr/>
          <p:nvPr/>
        </p:nvSpPr>
        <p:spPr>
          <a:xfrm>
            <a:off x="6553080" y="4343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54"/>
          <p:cNvSpPr/>
          <p:nvPr/>
        </p:nvSpPr>
        <p:spPr>
          <a:xfrm>
            <a:off x="3166920" y="160020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55"/>
          <p:cNvSpPr/>
          <p:nvPr/>
        </p:nvSpPr>
        <p:spPr>
          <a:xfrm>
            <a:off x="4419720" y="160020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56"/>
          <p:cNvSpPr/>
          <p:nvPr/>
        </p:nvSpPr>
        <p:spPr>
          <a:xfrm>
            <a:off x="3576960" y="15987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Tra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57"/>
          <p:cNvSpPr/>
          <p:nvPr/>
        </p:nvSpPr>
        <p:spPr>
          <a:xfrm>
            <a:off x="4846680" y="159876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Untra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58"/>
          <p:cNvSpPr/>
          <p:nvPr/>
        </p:nvSpPr>
        <p:spPr>
          <a:xfrm>
            <a:off x="3048120" y="1523880"/>
            <a:ext cx="2819160" cy="5335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7E8E-5044-44F8-9DF1-3F7DB36AC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Footer Placeholder 3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Data Collection Designs in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77" name="Line 3"/>
          <p:cNvSpPr/>
          <p:nvPr/>
        </p:nvSpPr>
        <p:spPr>
          <a:xfrm>
            <a:off x="533520" y="2438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4"/>
          <p:cNvSpPr/>
          <p:nvPr/>
        </p:nvSpPr>
        <p:spPr>
          <a:xfrm>
            <a:off x="533520" y="45720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635040" y="45705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289080" y="5192640"/>
            <a:ext cx="383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: Internal Referencing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12"/>
          <p:cNvSpPr/>
          <p:nvPr/>
        </p:nvSpPr>
        <p:spPr>
          <a:xfrm>
            <a:off x="259092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13"/>
          <p:cNvSpPr/>
          <p:nvPr/>
        </p:nvSpPr>
        <p:spPr>
          <a:xfrm>
            <a:off x="2590920" y="396252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14"/>
          <p:cNvSpPr/>
          <p:nvPr/>
        </p:nvSpPr>
        <p:spPr>
          <a:xfrm>
            <a:off x="762120" y="365760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5"/>
          <p:cNvSpPr/>
          <p:nvPr/>
        </p:nvSpPr>
        <p:spPr>
          <a:xfrm>
            <a:off x="762120" y="396252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6"/>
          <p:cNvSpPr/>
          <p:nvPr/>
        </p:nvSpPr>
        <p:spPr>
          <a:xfrm flipV="1">
            <a:off x="1219320" y="297144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17"/>
          <p:cNvSpPr/>
          <p:nvPr/>
        </p:nvSpPr>
        <p:spPr>
          <a:xfrm>
            <a:off x="1295280" y="4114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31"/>
          <p:cNvSpPr/>
          <p:nvPr/>
        </p:nvSpPr>
        <p:spPr>
          <a:xfrm>
            <a:off x="4648320" y="320040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33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34"/>
          <p:cNvSpPr/>
          <p:nvPr/>
        </p:nvSpPr>
        <p:spPr>
          <a:xfrm>
            <a:off x="5107680" y="3184560"/>
            <a:ext cx="260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Training on Relevant I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5"/>
          <p:cNvSpPr/>
          <p:nvPr/>
        </p:nvSpPr>
        <p:spPr>
          <a:xfrm>
            <a:off x="5117400" y="3641760"/>
            <a:ext cx="26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Training on Irrelevant I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36"/>
          <p:cNvSpPr/>
          <p:nvPr/>
        </p:nvSpPr>
        <p:spPr>
          <a:xfrm>
            <a:off x="4572000" y="3048120"/>
            <a:ext cx="3200400" cy="114300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6EAB-6464-45BD-BDA8-80CA8C1A2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Data Collection Designs in Training Evaluation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s about which data collection design to use need to be considered in the training design st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 if a trainer wants to have pre- and post data collection it will need to be factored into the design and administration of the program at the design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3218-10FA-428F-8D9C-806FCCADA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Instructional Systems Design Model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pic>
        <p:nvPicPr>
          <p:cNvPr id="64" name="Picture 4" descr="F1-2jpg"/>
          <p:cNvPicPr/>
          <p:nvPr/>
        </p:nvPicPr>
        <p:blipFill>
          <a:blip r:embed="rId1"/>
          <a:stretch/>
        </p:blipFill>
        <p:spPr>
          <a:xfrm>
            <a:off x="1143000" y="2362320"/>
            <a:ext cx="693432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B18F-F117-484B-8013-C5C89E9A3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in purposes for evaluating training programs was as well as the barriers was discu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models of training (Kirkpatrick, COMA, and DBE) were presented, critiqued and contra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d that Kirkpatrick model is most frequently used, yet has some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riables required for an evaluation as well as methods and techniques required to measur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in types of data collections designs were presen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 influencing choice of data collection designs were discus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44A1-9576-46D0-BEBE-EA14DE6B3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Instructional Systems Design Model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evaluation is the third step of the ISD model and consists of two par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aluation criteria (what is being measu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 design (how it will be measu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concepts are covered in the next two chap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has a specific and important role to play in the effective evaluation of training and the completion of the ISD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ABD2-55D0-4E01-AF6E-42765FA8B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5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What is Training Evaluation?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cess to assess the value - the worthiness - of training programs to employees and to organiz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11-3.jpg"/>
          <p:cNvPicPr/>
          <p:nvPr/>
        </p:nvPicPr>
        <p:blipFill>
          <a:blip r:embed="rId1"/>
          <a:stretch/>
        </p:blipFill>
        <p:spPr>
          <a:xfrm>
            <a:off x="4719600" y="2209680"/>
            <a:ext cx="4424400" cy="29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138A-F595-460E-96F3-C2087AF5C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 single procedure; a continuum of techniques, methods, and meas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s from simple to elaborate proced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re elaborate the procedure, the more complete the results, yet usually the more costly (time, resour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select the procedure based on what makes sense and what can add value within resource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C8E1-E462-4270-8CE8-17F5A9D03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Why Conduct Training Evaluations?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st managers in identifying what, and who, should be tr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cost-benefits of a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if training program has achieved expec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nose strengths and weaknesses of a program and pinpoint needed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ify and reinforce the value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1A6A-49A7-45D2-ACCA-1C074017F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Barriers to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Barriers fall into two catego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907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669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agma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0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quires specialized knowledge and can be intimi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0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ata collection can be costly and time consu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0760" indent="0">
              <a:spcBef>
                <a:spcPts val="1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669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oli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0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otential to reveal ineffectiveness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30T17:28:06Z</dcterms:modified>
  <cp:revision>374</cp:revision>
  <dc:subject/>
  <dc:title>Ch 11</dc:title>
</cp:coreProperties>
</file>